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8E5-35ED-4963-80CB-39FE4FB1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A0F-62C7-4BBB-BF79-0A3073AC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E5ECE-DE7F-49C0-91D1-A24FC9B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9D7E0-04A1-4F40-A945-E2EC183F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8CC24-B30D-4198-8BA8-072BE61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25174-48BD-4BF1-9DD4-7E5499C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43ED4-2584-45C5-8B3C-F732521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A386-37A7-45B9-99B0-F0AE669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77CA-E2CE-401E-B5B9-E821A7F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10D4C-B0CA-4CBA-9D2F-41CC8E58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B3D85-CD22-4027-AD68-21EF96F2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345FE-89F1-4ED3-9646-384BA916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594-D017-443C-8060-2B2B6358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B417D-D029-4BA5-B813-5D7FD73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8E4AC-3317-4293-A9DF-34CADEC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FD3C0-2C23-4CC0-8F81-FCAE7F80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DB1C1-C3F9-4563-9168-33782D10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BA90F-DD88-4EC7-8D4F-952A3201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284E-9B6C-47CD-8D1E-72E4E807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18E42-2DC6-4E33-B579-614C1C6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5E55F-42EB-4F7F-81C4-1FE1E20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0FF82-CC85-42C7-8BB9-4BA5CC2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4A551-D45D-40AB-B4F1-91BE0220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5A5-5C2C-42AA-B199-31E9A040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EDFB-2531-460B-96B0-74FA087D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BA124-3318-48EA-9CE1-623F607C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43E46-BE63-4060-A8C7-E1BC39F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C7D57-7C68-4E4E-93D5-F500AACE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04DF7-68DC-48AE-BA8C-E78DDD3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59FB7-334F-4144-B485-CC31C925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4AFB-53BD-4386-9EF4-ACA29FC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23A6-5AF1-4FE9-B6A2-03FA0FE0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EF9C9-4823-46D6-A247-6CAE803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B26A1-8474-436B-93CA-8671BD4E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6B74-9565-43F8-BFF0-3D1AEDBF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B8FCF-A111-4B69-9F67-D682661C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37936-D203-4B44-B846-5F8451DB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258EA-4D78-4F61-9E08-E2FC0EF1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DF27A-0620-41AD-AC13-C89D2E58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4CB41-8C8F-4473-8787-7298350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8236E-EE95-4169-942F-1993820E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B30DE-91C4-4A0A-8FC1-6CE2366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3501B-8493-47F1-86C4-18F4076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FF259-E154-41F2-8E64-DE7D8B2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6B8D5-AB97-4B4F-8F9A-FDC5BF86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D76-5FC7-4CBF-8A1E-2C97CC3B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52515-936E-4938-8401-0A11440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3F439-467F-4C64-A4AA-3905143E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17136-908E-4608-B530-17BE9FF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E7971-EE82-4482-ADF8-96A47CA0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5BA68-0CFC-4240-B289-01AA9F06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4B2C-3935-4A40-862E-0B4996C7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CAF-0E28-4D56-A502-882DE33F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43EB-2AA0-4958-8A8E-C7D48D1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415A-EBE9-42A4-9B3A-766170F5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DAB-E146-4038-B784-5116924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B06-70C4-4A6A-977E-3092941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64C-B359-47DB-B6D0-ED11583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349A-F25E-410D-813C-8187EE3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A1A-CD25-4068-8BFC-1DA1F1D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8FC9-ACEF-45DB-8106-19FC96F8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76D3-B147-4680-8AA2-26FB7DA7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4FBE-AF3F-421A-B222-A170D1B7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D652-F577-44B9-A687-44E1826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64E8-3E98-42DE-A1BB-87C334A9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D6D2-980A-48EE-96AA-803788DF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5D46-CE4A-4AC7-8863-FC3F6306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6C7-ED92-49AB-A10D-E28FC47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5DCD-2F53-4ADC-A97F-86A89FA6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7844-2845-4EF2-8B2B-5217726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81A6-A6E2-4704-BFE9-7426298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2E25-8DE5-483C-BD7A-0BE0CE2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8414-14A9-48F5-9227-602B1636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1CFE-9321-4BA2-BA5F-5B9D785A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DE76-DE30-475B-B457-6BB1A3A4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8AC5-6625-40E9-9C9A-AE9819A8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86B0-55ED-4918-8337-913174C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DE1B-DE26-4F1F-AE12-0AADB51D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B4E-D155-4BDA-ABB0-8DA33B1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6FFF-4D12-4CFC-ABAF-ECD6DFDE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1860-5D23-4F54-A282-28738078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2EDF-6424-4AA7-8C05-F084844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8D7B-C298-412D-B51B-C52554C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8F97-1D4E-4C79-A99B-A069B74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5172-6478-4A59-867D-975FE81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9878-1B20-4272-AB28-25967383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A151-19FB-480D-ADF2-28A976D6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BF02-56EB-404B-AAD6-E70859F0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0172-676F-41CD-AE99-CF0580A3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30A-1FEF-48FF-984E-C3B76E5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CB1A-44E7-426F-BC05-0D8E8D01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C317-6D59-4DFC-88B2-363EC2D6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0345-EB9F-4B4D-955B-E4BA514C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82BE-80DA-474F-8653-21F00F18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7327-F891-4ACA-95B8-FE44C48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3E49-BDD7-4699-A899-9EFE640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AC1A-E6CD-4021-B150-2B6674E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5D73-DB7F-483A-A391-05BA3AA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6FC2-6CD0-4EA7-AB70-C04F299B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90B7-257F-4134-88FE-1FBD8A75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E67-968E-4080-939B-DACD3E31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B6AC-4D6E-4F06-B2B9-BAEBE02C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97866-EE88-417A-BBD8-653A0B6F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E408E-9F73-4B73-B3C1-269CAFBB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877D-CE42-491E-B1F6-5C924F7B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0700-C3BF-4EB3-A7E2-4BAF1737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5126-DA14-4B35-884D-22DEF694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B8445-03B1-4116-9AC0-84FCA85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DC57-5199-4E6B-BBD3-AE222DAB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7443-1432-4765-97DB-BD1207E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EA68-2883-42DC-BDCA-B7463642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19F-0DC6-4B49-B1CF-E6FFA18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9B65-8049-4BC1-96C5-13D8A4E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9251-DC9A-4C65-9FF6-54EAB11A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A039-7048-46CE-A999-3CCF00F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00894-93BC-46AB-A0D2-9F31E2E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CF91-02E7-4054-A76D-BE5D863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26943-BE41-444C-BF59-4D0AB9FC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AD2C-6513-42BF-A226-E97DEA8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6CF3-AE06-4B49-A24A-0CD13930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4C61-7CAB-4C8C-8865-29AE8FA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087B-DDA0-4373-B5E1-98BE65F6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826-61EF-498F-95A8-C979455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5B796-1ADF-4053-A0C4-7900450B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C6510-BEFD-4C59-B44B-58E4E37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D7FD-129C-4B43-BE99-5D78831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52788-B63A-47B3-9CFB-0E089694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B2C1-FF31-4D29-B0BC-0B9B30AE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B246-EC50-44AF-8926-AC9DA2F1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113FA-AB5B-4E69-A949-44FDC884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E0EA-E113-4ECB-AD0D-3E38788F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E9AB4-E463-44F6-89A1-D9BFBF8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B73F-3EFD-444B-8616-3459E199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E1F-3266-4FDB-ADB2-F32BA93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A699-FF6B-4BA5-BEBB-1E6C7F1D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2F678-F060-4299-8E01-08DF707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0978-D82E-4CE0-B0EE-4BF12AA0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02DE-D575-4137-B5A9-B477356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C6FAE-6031-48A1-AD46-216621AE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1A57F-ECED-473D-911F-C32E8A65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6309-03E7-47EC-89A6-AF1203C3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A3BA4-0791-4A3E-BE8F-203A5032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C2C53-E2FF-4C71-B5EB-A3FED21D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90FF0-A153-49A3-BBE8-F5A4CD2D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15FA-51AE-4273-91B1-0EA129DF9C07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48F-4DF4-4614-B694-522F5C9CEEFD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7941-A29A-4D8D-8C6F-26E5F56B5755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933-9B6D-4321-826F-001E21335F31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F3FE-7737-494D-A498-5190071072E2}" type="slidenum">
              <a:rPr b="0" lang="pt-BR" sz="24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D4C1-8E6A-441F-875F-CCF7DA32CEE3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A4F-34B6-4824-BB82-4FEFD6B2B2FC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5D22-FDFD-42A3-9EAE-5D122165C323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85A6-B659-4A0D-B708-03C8698DE65B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EBC-70CD-480B-BB46-D2B6A71D3382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886-3D34-481E-B987-BB1C0F96F9E1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6A9A-EF67-4736-95A7-61EEE98F23BC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Imagem 4" descr="tecnolog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550" name="Título 1"/>
          <p:cNvSpPr/>
          <p:nvPr/>
        </p:nvSpPr>
        <p:spPr>
          <a:xfrm>
            <a:off x="395280" y="1944720"/>
            <a:ext cx="835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6700"/>
                </a:solidFill>
                <a:uFillTx/>
                <a:latin typeface="Arial"/>
              </a:rPr>
              <a:t>METODOLOGIA PARA QUEM QUER APRE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Subtítulo 2"/>
          <p:cNvSpPr/>
          <p:nvPr/>
        </p:nvSpPr>
        <p:spPr>
          <a:xfrm>
            <a:off x="179280" y="3213000"/>
            <a:ext cx="878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Tema 22 – grupo 0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Estudo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Progetec: Marli Borges da Co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Camapuã/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i'm your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m 1" descr="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ítulo 1"/>
          <p:cNvSpPr/>
          <p:nvPr/>
        </p:nvSpPr>
        <p:spPr>
          <a:xfrm>
            <a:off x="297000" y="2350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o vir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Espaço Reservado para Conteúdo 2"/>
          <p:cNvSpPr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mundo virtual está modificando as maneiras como se realiza o ato de estudar. Para muitos o estudo se tornou mais fácil, já que com a Internet é possível encontrar as informações prontas e sem esforço em pesquisar; tornando-se a mesma uma biblioteca global. Quando a Internet é vista como instrumento de pesquisa e elaboração se torna uma grande aliada ao processo de ensino aprendizagem; já que a partir dos vários textos de diversas qualidades o aluno poderá analisar e produzir de forma próp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Espaço Reservado para Conteúdo 2"/>
          <p:cNvSpPr/>
          <p:nvPr/>
        </p:nvSpPr>
        <p:spPr>
          <a:xfrm>
            <a:off x="395280" y="549360"/>
            <a:ext cx="82803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smo que o trabalho solicitado seja individual é quase correto afirmar que será copiado da Internet e elaborado por meio de uma montagem ou “mexido” de outros tex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ecessariamente não precisa ser assim, já que tendo como exemplo uma iniciativa de internau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a universidade de pares, é possível por meio dos jogos; que são de interesse comum, discutir sistematicamente problemas e situações encontradas e possíveis mudanças de regras e instruções, diferentes das propostas pelos sit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Espaço Reservado para Conteúdo 5"/>
          <p:cNvSpPr/>
          <p:nvPr/>
        </p:nvSpPr>
        <p:spPr>
          <a:xfrm>
            <a:off x="457200" y="549360"/>
            <a:ext cx="82296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mesma situação ocorre com crianças que por meio da ficção desenvolvem sua criatividade para reprodução e reconstrução de ideias próp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ferentemente do observado na sala de aula o ambiente virtual é baseado em muito estudo, aprofundamento e motiv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smo sem o domínio da leitura, as crianças não alfabetizadas podem contar com o auxílio virtual da Internet; como ambiente que promova seu avanço, mesmo no manejo de ambientes virtu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Espaço Reservado para Conteúdo 8"/>
          <p:cNvSpPr/>
          <p:nvPr/>
        </p:nvSpPr>
        <p:spPr>
          <a:xfrm>
            <a:off x="39528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partir da necessidade de interação com o ambiente virtual; acessar blogs, enviar e-mails e outros, decorrerá a necessidade de ler e escre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ambiente virtual é mais atrativo para o aluno ao se comparar os materiais clássicos fornecidos pelos professores. No ambiente wiki o aluno poderá interagir e citar suas conclusões obt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professor deve orientar os alunos a fazer bom uso da Internet; para que a partir de discussões, argumentações seja possível alcançar um trabalho de qual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Espaço Reservado para Conteúdo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aluno será o autor de sua aprendizagem contando com o amparo da Internet; uma fonte rica de conheci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m estuda está presente”, mesmo que seja em um ambiente virtual. O desafio está em fazer com que o aluno aproveite profundamente seu ambiente de estudo, já que saber estudar virtualmente será uma necessidade cada vez mais presente no mundo atual frente aos mais diversos conheci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5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Espaço Reservado para Conteúdo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s conhecimentos se tornam provisórios diante da dinâmica dos dias atuais; por isso a necessidade constante do estu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 mundo virtual a Internet é um espaço de criatividade, onde todos têm as possibilidades de serem autores de suas próprias vidas, conhecimentos e potencialidade; como autores modestos ou imponentes e de desta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5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19:05:37Z</dcterms:created>
  <dc:creator>Marli Borges</dc:creator>
  <dc:description/>
  <dc:language>en-US</dc:language>
  <cp:lastModifiedBy>Marli Borges</cp:lastModifiedBy>
  <dcterms:modified xsi:type="dcterms:W3CDTF">2015-03-28T10:38:50Z</dcterms:modified>
  <cp:revision>32</cp:revision>
  <dc:subject/>
  <dc:title>Apresentação do PowerPoint</dc:title>
</cp:coreProperties>
</file>